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852-6B55-4497-8290-0A3436AA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ABA-8F7F-44B5-870C-045DC20B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439E-08E1-4A2F-9FC9-4839D8DE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230-3D07-4BFE-AD6B-7610F631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2B0-C4F7-42EA-8FCD-C5E404D9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A1F-85E6-460A-9BA3-BADC888A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7A2-6233-44B4-A346-93DAFCBF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B64-8950-435C-BD5B-909516B6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F44-3081-4039-A1BA-4DE6352B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9CE-ED91-452A-A2DD-9F76EFF2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DBC-4812-485C-AE2E-E649580D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CEA-184F-466A-90F7-8C9BCDBC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180F-8020-4B95-815C-9CC29A85B4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مَسِيحاً جِئتَ نُور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تُلْقي الظُّلمَ عَنّ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َنْ شُعوبٍ كادِح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يَسودَ الحبُ في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ن ثبُتْنا مُخْلِص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نتَ يا ربَّ السَّم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ِئْتَنا لِلْمَجْدِ شَعْباً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َاتَّشَحْنَا بالبَهاء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َوْمَ جَئتَ الأرضَ رَبّاً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اقْتَبلنا بالرَّج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سْمُكَ الصّافِي مَحَبّة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انْعَرَفْنا بالضِّي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اسمِكَ الشعبُ الأم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15:04:27Z</dcterms:created>
  <dc:creator>Charbel Azar</dc:creator>
  <dc:description/>
  <dc:language>en-US</dc:language>
  <cp:lastModifiedBy>-</cp:lastModifiedBy>
  <dcterms:modified xsi:type="dcterms:W3CDTF">2002-12-29T07:40:30Z</dcterms:modified>
  <cp:revision>3</cp:revision>
  <dc:subject/>
  <dc:title>يا مَسِيحاً جِئتَ نُوراً كَيْ تُنِيرَ العَالَمِين جِئتَ حُبّاً جِئتَ صَفْحاً جَئتَ سَلْوَى الْبَائِسِين.</dc:title>
</cp:coreProperties>
</file>